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DB17-3CBD-45AB-A4C8-AF9C3ECFB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3F03-815E-424E-9554-F84D2E95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0600-87D2-4C08-B379-8BDA97E23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F62E-F296-4AB1-BEAD-972125961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ED4C-B65F-4B35-8503-3E8157EF3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5720-FB4A-4278-A337-B6552F3A5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DD07-4853-4180-B302-F43C69699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3F97-3BDB-4953-8C22-E943041CB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2808-9676-45B2-ABF0-F49CB566E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D1EE-D4F0-477C-8833-7A70B97D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9C00-13B6-4DF8-9874-600E6475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728C-D775-4B83-9EF6-33437816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22DB1-886E-41AA-B8A8-33B2794A8F6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34920" y="2671560"/>
            <a:ext cx="5040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4400" spc="-1" strike="noStrike">
              <a:solidFill>
                <a:srgbClr val="99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sus</cp:lastModifiedBy>
  <dcterms:modified xsi:type="dcterms:W3CDTF">2018-11-24T09:56:47Z</dcterms:modified>
  <cp:revision>587</cp:revision>
  <dc:subject/>
  <dc:title>Diapositiva 1</dc:title>
</cp:coreProperties>
</file>